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EA805-6E7E-4F82-A7BE-9147A0C6E3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9AB34-B137-4792-89BE-E7E8589B34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235D1-1BC9-461C-A8D7-6292B44ED0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0ED94-2E05-468A-8609-800F743B447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CB2AC-EC0E-4CD5-B2DC-CA984C11F7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85896-700E-4CCC-B21F-E94DAFB242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FCCA6-F680-4E0A-B35D-AE3F061AEC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65589-CFCC-4554-B821-5068E8F4D8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013AE-AD47-429F-BA83-8C9D4536EA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D7044-DA62-4C85-A488-E805F458D49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35601-4646-4BDB-B42A-0DC336C4CA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F078-7219-4679-8415-8D7246B458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0AA2-FABC-4773-8DC0-C1F25E64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A4D1-6DA5-48EB-AB45-274C74EF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DBAD-19FF-49F3-91A7-D1DD5C250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F161-F9CB-473E-9E55-F4C0FA92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127D-CECA-40C5-B740-D55FF2F9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2E94-5888-4B47-8256-C7400CE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2EBA-8A5B-40D2-B237-31AC361E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98CC-96F3-4783-828C-FD595B8B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DC84-25DE-46DA-AEC6-DF10657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226F-23E3-46F1-BC01-B03EDEDC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B786-5A37-428F-80CE-4FC9F13A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3677E4-5CAD-47DB-AC0A-D91D8E2F504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ORMACIÓN DE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564000" y="1484280"/>
            <a:ext cx="1800000" cy="107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TIP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456000" y="3284640"/>
            <a:ext cx="197964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224000" y="3284640"/>
            <a:ext cx="180036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GMÁ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904000" y="3284640"/>
            <a:ext cx="1979640" cy="107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60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2124000" y="2924280"/>
            <a:ext cx="4756320" cy="1440"/>
          </a:xfrm>
          <a:custGeom>
            <a:avLst/>
            <a:gdLst>
              <a:gd name="textAreaLeft" fmla="*/ 0 w 4756320"/>
              <a:gd name="textAreaRight" fmla="*/ 4756680 w 4756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213" h="4">
                <a:moveTo>
                  <a:pt x="0" y="0"/>
                </a:moveTo>
                <a:lnTo>
                  <a:pt x="13212" y="3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4464000" y="256392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15"/>
          <p:cNvSpPr/>
          <p:nvPr/>
        </p:nvSpPr>
        <p:spPr>
          <a:xfrm>
            <a:off x="2124000" y="292428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4464000" y="2924280"/>
            <a:ext cx="1800" cy="360360"/>
          </a:xfrm>
          <a:custGeom>
            <a:avLst/>
            <a:gdLst>
              <a:gd name="textAreaLeft" fmla="*/ 0 w 1800"/>
              <a:gd name="textAreaRight" fmla="*/ 2160 w 1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6880320" y="2924280"/>
            <a:ext cx="1440" cy="360360"/>
          </a:xfrm>
          <a:custGeom>
            <a:avLst/>
            <a:gdLst>
              <a:gd name="textAreaLeft" fmla="*/ 0 w 1440"/>
              <a:gd name="textAreaRight" fmla="*/ 1800 w 1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1001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360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1908000" y="52293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rocas magmá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958680" y="3762360"/>
            <a:ext cx="7140600" cy="2176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042920" y="1557360"/>
            <a:ext cx="28796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agma (masas muy calientes de minerales fundidos) asciende lentamente hacia la superficie terrestre, a través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itosfe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211640" y="1484280"/>
            <a:ext cx="23050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magmas que salen a la superficie a través de los volcanes, se enfrían deprisa originand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volcán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983280" y="1268280"/>
            <a:ext cx="21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magmas que no salen al exterior, se enfrían lentamente dando lugar 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plutón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23 CuadroTexto"/>
          <p:cNvSpPr/>
          <p:nvPr/>
        </p:nvSpPr>
        <p:spPr>
          <a:xfrm>
            <a:off x="611280" y="162864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23 CuadroTexto"/>
          <p:cNvSpPr/>
          <p:nvPr/>
        </p:nvSpPr>
        <p:spPr>
          <a:xfrm>
            <a:off x="3780000" y="155736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23 CuadroTexto"/>
          <p:cNvSpPr/>
          <p:nvPr/>
        </p:nvSpPr>
        <p:spPr>
          <a:xfrm>
            <a:off x="6588000" y="1341360"/>
            <a:ext cx="3603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24 Conector recto"/>
          <p:cNvSpPr/>
          <p:nvPr/>
        </p:nvSpPr>
        <p:spPr>
          <a:xfrm flipV="1">
            <a:off x="2627280" y="2997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25 Conector recto"/>
          <p:cNvSpPr/>
          <p:nvPr/>
        </p:nvSpPr>
        <p:spPr>
          <a:xfrm flipV="1">
            <a:off x="5003640" y="299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27 Conector recto"/>
          <p:cNvSpPr/>
          <p:nvPr/>
        </p:nvSpPr>
        <p:spPr>
          <a:xfrm flipH="1" flipV="1">
            <a:off x="5003640" y="393336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31 Conector recto"/>
          <p:cNvSpPr/>
          <p:nvPr/>
        </p:nvSpPr>
        <p:spPr>
          <a:xfrm flipV="1">
            <a:off x="7164360" y="2997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rocas metamórf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42920" y="2349360"/>
            <a:ext cx="2879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gunas rocas de la litosfera sufren grandes presiones y temperatu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16360" y="1989000"/>
            <a:ext cx="374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altas presiones y temperaturas hacen que las rocas de la zona sufran transformaciones que las convierten en rocas metamórf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922320" y="3384720"/>
            <a:ext cx="7500960" cy="29206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23 CuadroTexto"/>
          <p:cNvSpPr/>
          <p:nvPr/>
        </p:nvSpPr>
        <p:spPr>
          <a:xfrm>
            <a:off x="611280" y="2421000"/>
            <a:ext cx="360360" cy="368280"/>
          </a:xfrm>
          <a:prstGeom prst="rect">
            <a:avLst/>
          </a:prstGeom>
          <a:solidFill>
            <a:srgbClr val="66cbc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23 CuadroTexto"/>
          <p:cNvSpPr/>
          <p:nvPr/>
        </p:nvSpPr>
        <p:spPr>
          <a:xfrm>
            <a:off x="4284720" y="2060640"/>
            <a:ext cx="360360" cy="368280"/>
          </a:xfrm>
          <a:prstGeom prst="rect">
            <a:avLst/>
          </a:prstGeom>
          <a:solidFill>
            <a:srgbClr val="66cbc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9 Conector recto"/>
          <p:cNvSpPr/>
          <p:nvPr/>
        </p:nvSpPr>
        <p:spPr>
          <a:xfrm flipV="1">
            <a:off x="2340000" y="328464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20 Conector recto"/>
          <p:cNvSpPr/>
          <p:nvPr/>
        </p:nvSpPr>
        <p:spPr>
          <a:xfrm flipV="1">
            <a:off x="6156360" y="306828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63400" y="2879640"/>
            <a:ext cx="8040960" cy="3959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984240" y="903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os distintos tipos de r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las sedimen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1628640"/>
            <a:ext cx="252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iento o las corrientes de agua arrancan fragmentos a las rocas y los transport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635280" y="1341360"/>
            <a:ext cx="201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 el tiempo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sedimentos se van depositando unos sobre otros formando cap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035760" y="1197000"/>
            <a:ext cx="310824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hay muchas capas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sedimentos de las capas inferiores son aplastados p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de las capas superiores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 que los transforma en rocas sedimentari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23 CuadroTexto"/>
          <p:cNvSpPr/>
          <p:nvPr/>
        </p:nvSpPr>
        <p:spPr>
          <a:xfrm>
            <a:off x="395280" y="170028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23 CuadroTexto"/>
          <p:cNvSpPr/>
          <p:nvPr/>
        </p:nvSpPr>
        <p:spPr>
          <a:xfrm>
            <a:off x="3203640" y="141300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23 CuadroTexto"/>
          <p:cNvSpPr/>
          <p:nvPr/>
        </p:nvSpPr>
        <p:spPr>
          <a:xfrm>
            <a:off x="5580000" y="126828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23 Conector recto"/>
          <p:cNvSpPr/>
          <p:nvPr/>
        </p:nvSpPr>
        <p:spPr>
          <a:xfrm flipV="1">
            <a:off x="2340000" y="2637000"/>
            <a:ext cx="0" cy="129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24 Conector recto"/>
          <p:cNvSpPr/>
          <p:nvPr/>
        </p:nvSpPr>
        <p:spPr>
          <a:xfrm flipV="1">
            <a:off x="4067280" y="2708280"/>
            <a:ext cx="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26 Conector recto"/>
          <p:cNvSpPr/>
          <p:nvPr/>
        </p:nvSpPr>
        <p:spPr>
          <a:xfrm flipV="1">
            <a:off x="7596360" y="2637000"/>
            <a:ext cx="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53:21Z</dcterms:modified>
  <cp:revision>49</cp:revision>
  <dc:subject/>
  <dc:title>Diapositiva 1</dc:title>
</cp:coreProperties>
</file>